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EDC1-8CA9-4A99-99A6-9C2945A16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4F19-AE37-4733-B75C-84CF807405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F451-7682-4387-9174-3F40CDBC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87FA-FB6D-47A9-B601-9F521092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B1EDE1-BC61-4906-9493-2BD9905F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E12A86-AF64-47CE-B79A-AD756CA0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837AC6-332E-4EFF-A829-C416003B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06F9FA-AC25-4E20-83F4-AFCDD45B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9A798F-BB77-40EB-AFA4-6129C957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544F7A-0DCC-4C8B-86E7-3236F061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0880D7-DE2C-47A2-A1CA-2225723B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223B4F-EFDA-4DF2-9B90-F5B0426D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65F6CF-3E9A-4803-A93C-2ABDE565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C766-5344-4F71-A680-FCB04DBF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4BC8-70D0-4C38-8A38-BB79B510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0E556-17E8-4C58-8D3D-0223DF16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44E88-1B92-4833-885D-EDF2106C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8E078-CC00-42DB-A96C-2347DAF6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27B60-4277-4FB7-A422-4121410F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FE2BD-946C-4BAE-89EA-4EB6D596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08306-6CE4-4976-BE93-6EF31660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3D7E2-AD5B-438E-B940-AF9F4167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6FB8-D011-4FE9-B6A7-4BC1FDD2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1F15A-2FE8-494C-8A1B-67C12F7C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E7D9E-CAAB-483F-B329-2B1B04B6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B5F5B-C395-4936-A7F6-59C330CA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21BEF-7B62-4446-96E9-59D91AD2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47F98-786B-4880-9C55-29DCBAA6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10BBB-3E10-4623-8210-84D88A69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6C975-E23D-481A-BD41-BA5082AA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2902B-7FD3-4AAF-9B5D-421D04BB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BED47-3CCB-45FC-88F1-8910F7BB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D8103-7A16-441B-83B0-49582FF7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B233-66C5-4C3C-B421-94AC4D7E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25EA4-0FA8-41F8-A0D3-8EAFAFD5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D1635-F70D-479D-A507-9837CC13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E8947-88C5-470C-85E0-0E028044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528A3-D88E-4A70-80AE-C9865FF4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077E3-2D7F-4C6B-ABFC-E665B85B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1A3AE-495F-4077-89B1-FCD2E16B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ACDF6-F9B8-40C4-B5ED-4B27E436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1629C5-ED10-4A46-955E-0366DFD4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DB697A-CDB0-4D49-8260-EB43A431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76D711-91F9-4858-BE95-B6878CF1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DDF-B566-4BE7-A366-A90F954E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B4D305-DF94-442A-A13D-BF95A4FD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93C1A3-8E11-4326-94FF-F7EBB6B4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0AD70E-187A-44F7-B6A6-87A2DB51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94A478-CD34-4381-814A-4D888855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857370-8D23-4BC1-AA03-03E06DB7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BD43CC-2E6B-4101-9883-9DCEA1C5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66F022-D309-4E48-84B5-91CFD942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E0C376-E848-42E2-B0FD-F1EA0E3F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670D5C-79A4-48A4-8BD5-52A091DC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58C3A-01A7-4A91-9212-F97BCF56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781D-7037-46AF-850D-5A8D2DC6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FCE9D-E5C2-4C8D-9219-291F45D3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4C5A8-CAD6-4C8D-A5EA-1B861D63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DF905-0DC1-4CDC-8F6E-0B21521C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2E545-079C-4057-91CC-78E2870C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1829E-980B-43DD-AA0F-A2F13902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9E289-B60F-409D-B8D6-16FB72B3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29B6B-1176-4FE3-A229-A89F1891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00A7B-00E8-45BB-B441-E213EC8E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39C60-A88F-4702-98F8-F5D987A6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C57BD-E93B-40C6-A798-A5BC0411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3CB7-086B-428D-A465-4C5149C2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13283-ADF7-4C1A-A45A-573C35B7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6506E-F74F-49DD-AF6D-D1F4573D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CC831-4362-4419-BBC2-C7BDAA49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0C0C6-E196-43D4-B4B0-90E8C0BD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B3F92-A30D-4FC7-A9F6-BBD2355F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D2FB4-D979-4C7A-8108-B3FA8F74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F63ED-1E85-46FA-A0C6-074068B3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8DF0C-B021-4A60-B700-78271CCF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7DDDA-7152-4CDE-B044-1B1CBB91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36123-FC71-4869-A6E5-B06E6892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8906-73B0-45C1-BF42-BEC7247A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26374-72BF-42EE-A8FB-91FD5797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00B33-3C16-469D-97EB-1A097CA9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84B7A-1746-46D8-B798-421E6793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5068B-2068-4280-91F4-6EBFC0B0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DF402-1466-4B4B-B813-D6404D59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FB08B-D17E-45CE-9717-BBD02198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FE7D8-2EAA-47E1-B092-A66FBED5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399F2-F06A-4E4A-B825-87BAEA6A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68444-6C4A-42C6-B2BA-EFE5E872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45165-C69A-4A54-9EC1-317083CB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AB70-BA76-4380-A97A-C18EE1BA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318CE-1858-43A2-A2B2-61123FC2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9C715-C842-4DE9-B474-633A3C1C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EC6C1-23BE-4A8C-AF17-E399D6C9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9BF6B-E058-476B-9951-236AC3E5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350C3-F7DE-4F2E-8499-52EA1FA9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169412-678E-4AE1-B3DF-64EC5AB7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856BC5-8E2B-4029-A04D-B0FF15A7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CF2F08-BD5C-4CB4-B4BF-7E97F72A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4C1582-5684-443D-A878-851A4E03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C696BD-FCAD-4C7E-BB39-F39C9136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0875-1CD0-45AF-80C2-850F7D4F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803A72-4BEB-4C1F-8186-A3A11D29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DDD005-4F2B-436F-A987-B0C53891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C6E150-954D-4538-B8AF-D62841C4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958F18-45C8-4AFF-8334-4508D505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FCB12E-E281-4E49-B674-6823FBA2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467D64-F136-4BFC-830C-F6B32D2B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7A3634-ECA4-4F14-844F-1B41DA26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2A12BC-A72D-4C51-BF11-0945DDF2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122DEB-33FE-4726-BB62-64667475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16A2E5-2606-4FB5-BF61-50044D0A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E762-CA73-4B1E-B996-44581757134E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E632-7BC7-445E-8D01-A809ED69D50C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DD0D-47F1-417E-945D-C955F089E811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D593-BF07-44B9-BF0A-59AB3ADBE3B9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1396-99CF-4F85-B22E-411F010EEAD3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8740-C416-4398-9976-96F103E04E99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B594-1792-44FA-BAF2-69FB9C6EE73E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ED41-7CED-49F9-8DC3-E1CE36580114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1D7C-04C6-4D38-BD22-D6AA9ED88896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youtube.com/watch?v=ISsLEU4Cld0" TargetMode="External"/><Relationship Id="rId3" Type="http://schemas.openxmlformats.org/officeDocument/2006/relationships/hyperlink" Target="http://www.youtube.com/watch?v=sEuhKRhrvRM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066-1485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system of ideals and social codes governing the behavior of knights and gentlewom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cluded taking an oath of loyalty to an overlord and observing certain rules of warfare, such as never attacking an unarmed opponen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nguage – Frenc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285840" y="249120"/>
            <a:ext cx="8705880" cy="11653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Primary duty of males above serf class was military service to their lords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Page – young boys (around age 7) were sent to the home of a lord to begin training.  They were trained in other homes to ensure the training was strict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aught to read, write, sing, dance, play the harp, play chess, and rules of good manners by the ladies and the clergyme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aught to ride, wrestle, joust, and use a sword by squire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quire – around age 14; personal servant to a knigh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elped the knight dress, served meals, made his bed, carried armor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ourtly love – the idea that adoring a lady would make a knight braver and nobler; in its ideal form, courtly love is nonsexua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A knight might wear his lady’s colors in battle, glorify her in words, be inspired by her, but she was always pure and remained out of reach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night – around age 21; huge ceremony; he held an all-night vigil in full armor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ccolade – 3 strokes with the flat side of a sword (“dubbed”); originally a hard blow meant to test the courage of the pers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Largess – gifts given to the knight from his patron knight and gifts from the new knight to his companions and inferior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itle of “Sir”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Duty of a knight – service to God, his lord, and his lad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20840" y="249120"/>
            <a:ext cx="8570880" cy="11653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de for refinement in a rough ag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ncouraged loyalty and courag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alted the position of wome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isadvantage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ook no account of the common peopl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ook some virtues to absurd length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oust – 2 knights ride at each other with lances; if either is unhorsed, they continue to fight on foot with swords (think of this as maybe a wrestling match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ourney proper – several knights on horseback with swords until one party was defeated or the herald stopped the contest (think of this as a football game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st – oval enclosure surrounded by two rows of seats (think of this as a stadium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avilion – located at each end of the list for the opposing knights (think of this as the locker room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eralds – presided over tournaments and enforced  rules (think of this as the referee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292ca"/>
                </a:solidFill>
                <a:uFillTx/>
                <a:latin typeface="Rockwell"/>
                <a:hlinkClick r:id="rId2"/>
              </a:rPr>
              <a:t>http://www.youtube.com/watch?v=ISsLEU4Cld0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292ca"/>
                </a:solidFill>
                <a:uFillTx/>
                <a:latin typeface="Rockwell"/>
                <a:hlinkClick r:id="rId3"/>
              </a:rPr>
              <a:t>http://www.youtube.com/watch?v=sEuhKRhrvR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rmor in the early Middle Ages consisted of a helmet, a shield, and a mail shir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s weapons became more deadly, the need for more protection of heavier armor led to compromised flexibility and mobility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Armor was held together by rivets, leather straps, hinges, turning pins, buckles, and peg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A heavily padded undergarment of leather and a mail shirt were worn under the armor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Plate arm, leg, and foot pieces were also worn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Some suits weighed 120 pounds and had 200 custom-fitted iron plate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The knight also carried a dagger, a lance, a sword, a battle-ax, and a club-headed mace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ctober 1066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ay-long battle near Hastings, Englan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lliam, Duke of Normandy, defeated King Harold of England, the last Saxon k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eginning of the Norman Conques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609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addition to the threat of battle, the armor itself could be fatal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nights could die from suffocation, heart failure, heat stroke, even drowning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nights were unable to dress themselv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attles were scheduled to give the knights time to dress.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rvants stood nearby in order to help knights who had been unhorse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milar to today’s un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nguage -- Englis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erchant Guild – organized to include all those who sold goods in the tow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in purpose – monopolize the trade of its particular cit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rafts Guild – organization of artisans of various trad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in purpose – securing competent workmen and honest product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evels of Craftsmen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pprentice – lived with a master craftsman for 7 years; received no pay, but he was instructed in the art by the master craftsman; supplied with all his necessities; morals guarde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Journeyman – if apprentice lacked money to become a master, he could continue to live and work with the master; did receive pa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ll land except that which was farmed for the lord was treated as one big far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termined to a large extent the life of the peasantr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nguage – Englis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church concerned itself with almost every act of every man, regardless of rank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nguage – Lati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illegitimate son of the previous duke of Normand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usin to Edward the Confessor (the king before Harold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dward died childless early in 1066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arold of Wessex was crowned the following day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lliam claimed that the King Edward had promised him the thron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lliam gathered a huge army and sailed across the English Channel to seize what he felt was rightfully hi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lliam did not want to conquer the Anglo-Saxons; he just wanted to rule them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ecause of that, we have a culture and a language that is a combination of Norman and Anglo-Saxon element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Anglo-Saxons provided more democratic and artistic element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Normans provided administrative ability, emphasis on law and order, and cultural unity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ne of William’s greatest feats was the Doomsday Book – an inventory of nearly every piece of property in England—land, cattle, and building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r the first time, people in Europe were taxed on what they owne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survey helped to solidify the feudal system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eudalism is a social hierarchy that was recognized for centuri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t was a social system, a caste system, a property system, and a military system.  (A caste system is a system based on birth or wealth.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ased on a religious concept of rank with God as the supreme overlor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Content Placeholder 3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7892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y requiring that nobles swear loyalty to him, William was establishing the principle of centralized government in Englan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feudal system did not always work.  Occasionally, a vassal might choose not to honor his obligations, and battles between iron-clad knights would break ou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6:02:53Z</dcterms:created>
  <dc:creator>pcoles</dc:creator>
  <dc:description/>
  <dc:language>en-US</dc:language>
  <cp:lastModifiedBy> </cp:lastModifiedBy>
  <dcterms:modified xsi:type="dcterms:W3CDTF">2010-09-01T20:05:11Z</dcterms:modified>
  <cp:revision>15</cp:revision>
  <dc:subject/>
  <dc:title>The Middle Ages</dc:title>
</cp:coreProperties>
</file>